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9AB-FA12-484D-9B6F-0339E3FB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D9E-D45D-4B31-9453-8B8A7355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AF5-6EAC-4520-A60B-0C1E6D81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9AA-8100-446C-87DB-1BDB76E4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B98-8635-41D0-80D9-CDADD7E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83A-D88A-42DC-B550-64302943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BAD-A7DB-4B83-A06F-371D9DB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55C-67BF-49C6-A6B6-3BD591A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113-9D4C-4A69-8F5D-C749564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DD9-6603-4458-9D11-DFD3B73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8E8-5004-45FD-8B7C-EF339382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851-6051-491A-9CF8-C9C5007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1448-3448-4F0C-8640-86CCE5B82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1844640"/>
            <a:ext cx="45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第十五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                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二次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1727280" cy="137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09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389680" y="1240920"/>
            <a:ext cx="2771280" cy="4260600"/>
            <a:chOff x="2389680" y="1240920"/>
            <a:chExt cx="2771280" cy="4260600"/>
          </a:xfrm>
        </p:grpSpPr>
        <p:sp>
          <p:nvSpPr>
            <p:cNvPr id="117" name=""/>
            <p:cNvSpPr/>
            <p:nvPr/>
          </p:nvSpPr>
          <p:spPr>
            <a:xfrm flipV="1">
              <a:off x="2905200" y="1641600"/>
              <a:ext cx="75960" cy="460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1160" y="1654200"/>
              <a:ext cx="108000" cy="2095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02120" y="1240920"/>
              <a:ext cx="144360" cy="622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6480" y="1241280"/>
              <a:ext cx="58428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016080" y="2817720"/>
              <a:ext cx="74880" cy="4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0960" y="2830680"/>
              <a:ext cx="109440" cy="28872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13000" y="2293560"/>
              <a:ext cx="144720" cy="8254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7720" y="2293920"/>
              <a:ext cx="13334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486240" y="3990960"/>
              <a:ext cx="74520" cy="446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60760" y="4003560"/>
              <a:ext cx="109440" cy="2890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83160" y="3465360"/>
              <a:ext cx="144360" cy="827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7520" y="3465360"/>
              <a:ext cx="13334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16080" y="5086080"/>
              <a:ext cx="74880" cy="4428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0960" y="5099040"/>
              <a:ext cx="109440" cy="23976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213000" y="4638240"/>
              <a:ext cx="144720" cy="7002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7720" y="4638600"/>
              <a:ext cx="795240" cy="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1800" y="4705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69800" y="35337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000" y="236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88040" y="475452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7640" y="475452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00640" y="475452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89680" y="475452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9016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2520" y="358308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936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5948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1560" y="358308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89680" y="358308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2000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2720" y="24098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9956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764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0640" y="24098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89680" y="24098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5680" y="1279440"/>
              <a:ext cx="6224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6760" y="12794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35480" y="127944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89680" y="12794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27880" y="466740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05960" y="35132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8880" y="351324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35800" y="2340000"/>
              <a:ext cx="2080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0680" y="612720"/>
                <a:ext cx="6221160" cy="46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：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计算</m:t>
                        </m:r>
                        <m:r>
                          <m:t xml:space="preserve">: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7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76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简下列各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413000"/>
                <a:ext cx="648180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&lt;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826920" y="0"/>
            <a:ext cx="5234760" cy="3616920"/>
            <a:chOff x="826920" y="0"/>
            <a:chExt cx="5234760" cy="3616920"/>
          </a:xfrm>
        </p:grpSpPr>
        <p:sp>
          <p:nvSpPr>
            <p:cNvPr id="168" name=""/>
            <p:cNvSpPr txBox="1"/>
            <p:nvPr/>
          </p:nvSpPr>
          <p:spPr>
            <a:xfrm>
              <a:off x="826920" y="0"/>
              <a:ext cx="3276720" cy="13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知识小结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32480" y="2548080"/>
              <a:ext cx="412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               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通过今天的学习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用你自己的话说说你的收获和体会</a:t>
              </a:r>
              <a:r>
                <a:rPr b="1" lang="zh-CN" sz="3200" spc="-1" strike="noStrike">
                  <a:solidFill>
                    <a:srgbClr val="cc0066"/>
                  </a:solidFill>
                  <a:latin typeface="华文细黑"/>
                  <a:ea typeface="华文细黑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请你填一填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746280" y="1165320"/>
            <a:ext cx="7559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平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              =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非负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算术平方根是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Arial"/>
              </a:rPr>
              <a:t>——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00400" y="17524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268880" y="10666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1080" y="155736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±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8720" y="16002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920" y="26668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955440" cy="83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895480" y="3276720"/>
                <a:ext cx="76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72360" y="3933720"/>
                <a:ext cx="990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1197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什么叫做平方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60280"/>
            <a:ext cx="230328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华文新魏"/>
              </a:rPr>
              <a:t>知识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84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一般地，如果一个数的平方等于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，那么这个数叫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平方根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1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什么叫算术平方根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933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正数的正平方根和零的平方根，统称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算术平方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55640" y="4653000"/>
          <a:ext cx="561672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653000"/>
                    <a:ext cx="5616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3213000"/>
                <a:ext cx="8064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形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rPr>
                        <m:lit/>
                        <m:nor/>
                      </m:rPr>
                      <m:t xml:space="preserve">的式子叫做二次根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79640" y="3213000"/>
                <a:ext cx="158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0920" y="1916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定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18900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引入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03280" y="404640"/>
            <a:ext cx="63151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利用算术平方根的意义填空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4920" y="1447920"/>
                <a:ext cx="1574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1447920"/>
                <a:ext cx="2084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9920" y="1295280"/>
                <a:ext cx="171108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4920" y="2971800"/>
                <a:ext cx="13539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525320" y="1447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15238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848720" y="1371600"/>
                <a:ext cx="50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00200" y="31240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29264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95280" y="4221000"/>
                <a:ext cx="20653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2843280" y="4653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03280" y="404640"/>
            <a:ext cx="63151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利用算术平方根的意义填空</a:t>
            </a: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2840" y="1447920"/>
                <a:ext cx="2100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59160" y="1447920"/>
                <a:ext cx="2652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/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853240" y="1295280"/>
                <a:ext cx="204624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836720" y="141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484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848720" y="1371600"/>
                <a:ext cx="5014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95280" y="436572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5520" y="4221000"/>
                <a:ext cx="24019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817720" y="46864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87480" y="396720"/>
            <a:ext cx="4464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42920" y="333360"/>
                <a:ext cx="20653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81560" y="7905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2133720"/>
            <a:ext cx="4464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71640" y="2133720"/>
                <a:ext cx="24019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635280" y="2492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8360" y="4005360"/>
                <a:ext cx="3600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067280" y="4292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05360"/>
            <a:ext cx="7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94172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400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a≥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5157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(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8360" y="2349360"/>
            <a:ext cx="7799400" cy="2097000"/>
            <a:chOff x="468360" y="2349360"/>
            <a:chExt cx="7799400" cy="2097000"/>
          </a:xfrm>
        </p:grpSpPr>
        <p:sp>
          <p:nvSpPr>
            <p:cNvPr id="107" name=""/>
            <p:cNvSpPr/>
            <p:nvPr/>
          </p:nvSpPr>
          <p:spPr>
            <a:xfrm>
              <a:off x="468360" y="2349360"/>
              <a:ext cx="75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二次根式的性质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665280" y="3500280"/>
                  <a:ext cx="760248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</m:e>
                      </m:rad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（双重非负性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4572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1125360"/>
          <a:ext cx="3217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3217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838080" cy="7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09:09:23Z</dcterms:created>
  <dc:creator>微软中国</dc:creator>
  <dc:description/>
  <dc:language>en-US</dc:language>
  <cp:lastModifiedBy>微软中国</cp:lastModifiedBy>
  <dcterms:modified xsi:type="dcterms:W3CDTF">2015-06-09T09:09:27Z</dcterms:modified>
  <cp:revision>1</cp:revision>
  <dc:subject/>
  <dc:title>幻灯片 1</dc:title>
</cp:coreProperties>
</file>